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B97-9CB7-4DF5-AED0-59D8FC3E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843-78A5-4C7E-BCE7-5681995A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01E-86B2-4110-9E4D-B75CF6C6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C8A-90E6-4E8F-BEEA-4BA17799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4D4-2F29-462E-9EAA-1287273A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0B3-D9E9-48EA-B90F-D1E9D644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E8E-9C9C-4C67-9ACA-14145A45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D3F-F400-44F8-8982-66BBDA2D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DCF-0B3B-410F-B353-312DA596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616-3053-4410-BAE3-7CFFF24A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5D2-6678-4447-A030-E0229B0C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49B-6CBF-4A3D-9AD3-A8341B41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6195-AFAC-4FF9-AB00-90A94D9E79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РОГРАММА </a:t>
            </a:r>
            <a:r>
              <a:rPr b="0" lang="en-US" sz="31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О ОЗДОРОВЛЕНИЮ ОБУЧАЮЩИХСЯ НАЧАЛЬНОЙ ШКОЛЫ</a:t>
            </a:r>
            <a:br>
              <a:rPr sz="3100"/>
            </a:b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«УЧИМСЯ  РАССЛАБЛЯТЬС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95280" y="3886200"/>
            <a:ext cx="377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сош №5 г. Каш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ликаева Татьяна Борис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1547640" y="1168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3"/>
          <p:cNvSpPr/>
          <p:nvPr/>
        </p:nvSpPr>
        <p:spPr>
          <a:xfrm flipH="1">
            <a:off x="1476360" y="1141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144360" y="3429000"/>
            <a:ext cx="882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54360" y="115920"/>
            <a:ext cx="0" cy="661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332000" y="981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7380360" y="907920"/>
            <a:ext cx="433440" cy="4334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4356000" y="642456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0" y="3213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0.66146 0.66473 E">
                                      <p:cBhvr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78499E-007 L -0.67726 0.67285 E">
                                      <p:cBhvr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3003E-006 L -0.00781 -0.94161 E">
                                      <p:cBhvr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9203E-006 L 0.95677 -3.39203E-006 E">
                                      <p:cBhvr>
                                        <p:cTn id="104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ДИНАМИЧЕСКИЕ ПАУ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D:\ТБ2\школа фото\20 декабря 2010г. 007.jpg"/>
          <p:cNvPicPr/>
          <p:nvPr/>
        </p:nvPicPr>
        <p:blipFill>
          <a:blip r:embed="rId2"/>
          <a:stretch/>
        </p:blipFill>
        <p:spPr>
          <a:xfrm>
            <a:off x="2050920" y="1341360"/>
            <a:ext cx="66913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ГРЫ НА ПЕРЕ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D:\ТБ2\школа фото\20 декабря 2010г. 001.jpg"/>
          <p:cNvPicPr/>
          <p:nvPr/>
        </p:nvPicPr>
        <p:blipFill>
          <a:blip r:embed="rId2"/>
          <a:stretch/>
        </p:blipFill>
        <p:spPr>
          <a:xfrm>
            <a:off x="1290600" y="134136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РОК ФИЗ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D:\ТБ2\школа фото\осенние забавы 031.jpg"/>
          <p:cNvPicPr/>
          <p:nvPr/>
        </p:nvPicPr>
        <p:blipFill>
          <a:blip r:embed="rId2"/>
          <a:stretch/>
        </p:blipFill>
        <p:spPr>
          <a:xfrm rot="21196800">
            <a:off x="441360" y="1341000"/>
            <a:ext cx="4710240" cy="353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ТБ2\школа фото\осенние забавы 033.jpg"/>
          <p:cNvPicPr/>
          <p:nvPr/>
        </p:nvPicPr>
        <p:blipFill>
          <a:blip r:embed="rId3"/>
          <a:stretch/>
        </p:blipFill>
        <p:spPr>
          <a:xfrm>
            <a:off x="4643280" y="3675240"/>
            <a:ext cx="42436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ЗАНЯТИЕ САМ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D:\ТБ2\школа фото\осенние забавы 024.jpg"/>
          <p:cNvPicPr/>
          <p:nvPr/>
        </p:nvPicPr>
        <p:blipFill>
          <a:blip r:embed="rId2"/>
          <a:stretch/>
        </p:blipFill>
        <p:spPr>
          <a:xfrm>
            <a:off x="179280" y="126828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ЕСЁЛЫЕ СТА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\Мои документы\Мои рисунки\погуляли\погуляли 018.jpg"/>
          <p:cNvPicPr/>
          <p:nvPr/>
        </p:nvPicPr>
        <p:blipFill>
          <a:blip r:embed="rId2"/>
          <a:stretch/>
        </p:blipFill>
        <p:spPr>
          <a:xfrm>
            <a:off x="108000" y="1268280"/>
            <a:ext cx="4716360" cy="353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dmin\Мои документы\Мои рисунки\погуляли\погуляли 003.jpg"/>
          <p:cNvPicPr/>
          <p:nvPr/>
        </p:nvPicPr>
        <p:blipFill>
          <a:blip r:embed="rId3"/>
          <a:stretch/>
        </p:blipFill>
        <p:spPr>
          <a:xfrm>
            <a:off x="4782960" y="3429000"/>
            <a:ext cx="436104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87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6875640" y="2205000"/>
            <a:ext cx="2447640" cy="340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ят она везд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привыкли, что вод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спутница всег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ю вам я доложи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воды нам не прож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Admin\Мои документы\Мои рисунки\м\м 001.jpg"/>
          <p:cNvPicPr/>
          <p:nvPr/>
        </p:nvPicPr>
        <p:blipFill>
          <a:blip r:embed="rId2"/>
          <a:stretch/>
        </p:blipFill>
        <p:spPr>
          <a:xfrm>
            <a:off x="179280" y="1628640"/>
            <a:ext cx="6613560" cy="4961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ПОХОДЫ И ПРОГУ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D:\ТБ2\школа фото\осенние забавы 039.jpg"/>
          <p:cNvPicPr/>
          <p:nvPr/>
        </p:nvPicPr>
        <p:blipFill>
          <a:blip r:embed="rId2"/>
          <a:stretch/>
        </p:blipFill>
        <p:spPr>
          <a:xfrm rot="21250200">
            <a:off x="174600" y="1509480"/>
            <a:ext cx="4938840" cy="370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:\ТБ2\школа фото\Recoverd_jpg_file(1065).jpg"/>
          <p:cNvPicPr/>
          <p:nvPr/>
        </p:nvPicPr>
        <p:blipFill>
          <a:blip r:embed="rId3"/>
          <a:stretch/>
        </p:blipFill>
        <p:spPr>
          <a:xfrm rot="660000">
            <a:off x="5106600" y="3050640"/>
            <a:ext cx="3747960" cy="3265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179280" y="5516640"/>
            <a:ext cx="460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уть-дорогу собирайся,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здоровьем отправляйся!.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Летний оздоровительный лагерь «Солнышк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334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Игры на свежем воздух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D:\ТБ2\школа фото\20 декабря 2010г. 012.jpg"/>
          <p:cNvPicPr/>
          <p:nvPr/>
        </p:nvPicPr>
        <p:blipFill>
          <a:blip r:embed="rId2"/>
          <a:stretch/>
        </p:blipFill>
        <p:spPr>
          <a:xfrm>
            <a:off x="1763640" y="1484280"/>
            <a:ext cx="66135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108000" y="1482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родная мудрость гласит: «Деньги потерял – ничего не потеря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емя потерял – много потерял. Здоровье потерял – все потерял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D:\ТБ2\школа фото\шк 004.jpg"/>
          <p:cNvPicPr/>
          <p:nvPr/>
        </p:nvPicPr>
        <p:blipFill>
          <a:blip r:embed="rId2"/>
          <a:stretch/>
        </p:blipFill>
        <p:spPr>
          <a:xfrm>
            <a:off x="1270080" y="155736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НАШ  ЧЕМП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179280" y="1600200"/>
            <a:ext cx="43164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мы здоров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рядкой дружн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спорт с физкультур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оздух нужн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ТБ2\школа фото\PICT4639.JPG"/>
          <p:cNvPicPr/>
          <p:nvPr/>
        </p:nvPicPr>
        <p:blipFill>
          <a:blip r:embed="rId2"/>
          <a:stretch/>
        </p:blipFill>
        <p:spPr>
          <a:xfrm>
            <a:off x="392040" y="2971800"/>
            <a:ext cx="3892680" cy="368604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ИЗИТКА </a:t>
            </a: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4-Б </a:t>
            </a: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КЛА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3"/>
          <a:stretch/>
        </p:blipFill>
        <p:spPr>
          <a:xfrm>
            <a:off x="4816440" y="1030320"/>
            <a:ext cx="3870360" cy="4508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"/>
          <p:cNvSpPr/>
          <p:nvPr/>
        </p:nvSpPr>
        <p:spPr>
          <a:xfrm>
            <a:off x="446580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оровье своё сбережём с малых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ям , недугам мы скажем-не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270828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доровье – это бесценный дар природы, оно дается, к сожалению, не навечно, его необходимо беречь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.П.Павл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http://nsportal.ru/bedrina-makpal-agideleevna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2.http//mou65chei-edu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611280" y="1557360"/>
            <a:ext cx="813744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создать условия для сохранения здоровья школьника за период обучения в школе, сформировать у него необходимые знания, умения и навыки по ЗОЖ, научить использовать полученные знания в повседневной жизни, укреплять здоровье детей во время учебного процесса и во время внеуроч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791080" y="549360"/>
            <a:ext cx="522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611280" y="1916280"/>
            <a:ext cx="756108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ные минутки, зарядки для глаз, 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паузы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и здоровья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н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УТРЕННЯЯ ЗАРЯ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ТБ2\школа фото\осенние забавы 022.jpg"/>
          <p:cNvPicPr/>
          <p:nvPr/>
        </p:nvPicPr>
        <p:blipFill>
          <a:blip r:embed="rId2"/>
          <a:stretch/>
        </p:blipFill>
        <p:spPr>
          <a:xfrm>
            <a:off x="0" y="170028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6516720" y="765000"/>
            <a:ext cx="2627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ивыкли мы к поря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ом делаем заряд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а лад идет тог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бота, и иг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103320" y="0"/>
            <a:ext cx="9347040" cy="7162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МЕШАЮТ ИЛИ ПОМОГАЮТ НА УРОКЕ ФИЗКУЛЬТМИНУТКИ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4622760" y="1484280"/>
            <a:ext cx="452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1.Помогают преодолеть сонливость и однообразность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2.Повышают работоспособ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3.Создают хороше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4.Способствуют общ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5.Мешают уро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6.Ограничивают время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Диаграмма 8" descr=""/>
          <p:cNvPicPr/>
          <p:nvPr/>
        </p:nvPicPr>
        <p:blipFill>
          <a:blip r:embed="rId5"/>
          <a:stretch/>
        </p:blipFill>
        <p:spPr>
          <a:xfrm>
            <a:off x="-23760" y="3376440"/>
            <a:ext cx="46371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ТБ2\школа фото\м 001.jpg"/>
          <p:cNvPicPr/>
          <p:nvPr/>
        </p:nvPicPr>
        <p:blipFill>
          <a:blip r:embed="rId2"/>
          <a:stretch/>
        </p:blipFill>
        <p:spPr>
          <a:xfrm>
            <a:off x="1403280" y="162864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ПРАЖНЕНИЯ ДЛЯ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"/>
          <p:cNvSpPr/>
          <p:nvPr/>
        </p:nvSpPr>
        <p:spPr>
          <a:xfrm>
            <a:off x="1835280" y="1635120"/>
            <a:ext cx="5041800" cy="50418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fef06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2195640" y="2019240"/>
            <a:ext cx="4239360" cy="3569760"/>
            <a:chOff x="2195640" y="2019240"/>
            <a:chExt cx="4239360" cy="3569760"/>
          </a:xfrm>
        </p:grpSpPr>
        <p:grpSp>
          <p:nvGrpSpPr>
            <p:cNvPr id="69" name="Group 5"/>
            <p:cNvGrpSpPr/>
            <p:nvPr/>
          </p:nvGrpSpPr>
          <p:grpSpPr>
            <a:xfrm>
              <a:off x="4942800" y="2019240"/>
              <a:ext cx="1492200" cy="1237680"/>
              <a:chOff x="4942800" y="2019240"/>
              <a:chExt cx="1492200" cy="1237680"/>
            </a:xfrm>
          </p:grpSpPr>
          <p:sp>
            <p:nvSpPr>
              <p:cNvPr id="70" name="Oval 6"/>
              <p:cNvSpPr/>
              <p:nvPr/>
            </p:nvSpPr>
            <p:spPr>
              <a:xfrm>
                <a:off x="49428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Oval 7"/>
              <p:cNvSpPr/>
              <p:nvPr/>
            </p:nvSpPr>
            <p:spPr>
              <a:xfrm>
                <a:off x="5160600" y="2569680"/>
                <a:ext cx="39852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8"/>
              <p:cNvSpPr/>
              <p:nvPr/>
            </p:nvSpPr>
            <p:spPr>
              <a:xfrm>
                <a:off x="525744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9"/>
              <p:cNvSpPr/>
              <p:nvPr/>
            </p:nvSpPr>
            <p:spPr>
              <a:xfrm>
                <a:off x="494280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10"/>
              <p:cNvSpPr/>
              <p:nvPr/>
            </p:nvSpPr>
            <p:spPr>
              <a:xfrm>
                <a:off x="572868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 11"/>
              <p:cNvSpPr/>
              <p:nvPr/>
            </p:nvSpPr>
            <p:spPr>
              <a:xfrm>
                <a:off x="5806440" y="2666160"/>
                <a:ext cx="55044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>
                <a:off x="5806440" y="2788200"/>
                <a:ext cx="62856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13"/>
            <p:cNvGrpSpPr/>
            <p:nvPr/>
          </p:nvGrpSpPr>
          <p:grpSpPr>
            <a:xfrm>
              <a:off x="2195640" y="2019240"/>
              <a:ext cx="1492200" cy="1237680"/>
              <a:chOff x="2195640" y="2019240"/>
              <a:chExt cx="1492200" cy="1237680"/>
            </a:xfrm>
          </p:grpSpPr>
          <p:sp>
            <p:nvSpPr>
              <p:cNvPr id="78" name="Oval 14"/>
              <p:cNvSpPr/>
              <p:nvPr/>
            </p:nvSpPr>
            <p:spPr>
              <a:xfrm>
                <a:off x="28242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15"/>
              <p:cNvSpPr/>
              <p:nvPr/>
            </p:nvSpPr>
            <p:spPr>
              <a:xfrm flipH="1">
                <a:off x="3071520" y="2569680"/>
                <a:ext cx="39816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Oval 16"/>
              <p:cNvSpPr/>
              <p:nvPr/>
            </p:nvSpPr>
            <p:spPr>
              <a:xfrm flipH="1">
                <a:off x="317196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 17"/>
              <p:cNvSpPr/>
              <p:nvPr/>
            </p:nvSpPr>
            <p:spPr>
              <a:xfrm flipH="1">
                <a:off x="274572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Freeform 18"/>
              <p:cNvSpPr/>
              <p:nvPr/>
            </p:nvSpPr>
            <p:spPr>
              <a:xfrm flipH="1">
                <a:off x="251064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19"/>
              <p:cNvSpPr/>
              <p:nvPr/>
            </p:nvSpPr>
            <p:spPr>
              <a:xfrm flipH="1">
                <a:off x="2273760" y="2666160"/>
                <a:ext cx="55008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20"/>
              <p:cNvSpPr/>
              <p:nvPr/>
            </p:nvSpPr>
            <p:spPr>
              <a:xfrm flipH="1">
                <a:off x="2195280" y="2788200"/>
                <a:ext cx="62820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Oval 21"/>
            <p:cNvSpPr/>
            <p:nvPr/>
          </p:nvSpPr>
          <p:spPr>
            <a:xfrm>
              <a:off x="3608280" y="3768120"/>
              <a:ext cx="1492200" cy="4366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 rot="16200000">
              <a:off x="3845160" y="3861000"/>
              <a:ext cx="101988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25" y="1049"/>
                    <a:pt x="5850" y="5080"/>
                    <a:pt x="5850" y="10800"/>
                  </a:cubicBezTo>
                  <a:cubicBezTo>
                    <a:pt x="5850" y="16520"/>
                    <a:pt x="13725" y="205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4747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23"/>
            <p:cNvSpPr/>
            <p:nvPr/>
          </p:nvSpPr>
          <p:spPr>
            <a:xfrm rot="18000000">
              <a:off x="5456880" y="406872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24"/>
            <p:cNvSpPr/>
            <p:nvPr/>
          </p:nvSpPr>
          <p:spPr>
            <a:xfrm rot="14400000">
              <a:off x="2948040" y="406836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Oval 3"/>
          <p:cNvSpPr/>
          <p:nvPr/>
        </p:nvSpPr>
        <p:spPr>
          <a:xfrm>
            <a:off x="3916440" y="806400"/>
            <a:ext cx="874800" cy="8748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ebf7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2085E-006 C 0.15121 2.52085E-006 0.27517 0.16381 0.27517 0.36585 C 0.27517 0.56719 0.15121 0.73239 4.16667E-006 0.73239 C -0.15191 0.73239 -0.27466 0.56719 -0.27466 0.36585 C -0.27466 0.16381 -0.15191 2.52085E-006 4.16667E-006 2.52085E-006 Z">
                                      <p:cBhvr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484360" y="907920"/>
            <a:ext cx="4967280" cy="4966920"/>
            <a:chOff x="2484360" y="907920"/>
            <a:chExt cx="4967280" cy="4966920"/>
          </a:xfrm>
        </p:grpSpPr>
        <p:sp>
          <p:nvSpPr>
            <p:cNvPr id="91" name="Oval 3"/>
            <p:cNvSpPr/>
            <p:nvPr/>
          </p:nvSpPr>
          <p:spPr>
            <a:xfrm rot="16200000">
              <a:off x="576036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4"/>
            <p:cNvSpPr/>
            <p:nvPr/>
          </p:nvSpPr>
          <p:spPr>
            <a:xfrm rot="16200000">
              <a:off x="316800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5"/>
            <p:cNvSpPr/>
            <p:nvPr/>
          </p:nvSpPr>
          <p:spPr>
            <a:xfrm>
              <a:off x="4500360" y="35002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6"/>
            <p:cNvSpPr/>
            <p:nvPr/>
          </p:nvSpPr>
          <p:spPr>
            <a:xfrm>
              <a:off x="4500360" y="9079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4572000" y="2995200"/>
              <a:ext cx="865080" cy="86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Oval 8"/>
          <p:cNvSpPr/>
          <p:nvPr/>
        </p:nvSpPr>
        <p:spPr>
          <a:xfrm>
            <a:off x="4859280" y="836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9:59Z</dcterms:created>
  <dc:creator>Admin</dc:creator>
  <dc:description/>
  <dc:language>en-US</dc:language>
  <cp:lastModifiedBy>selikaev</cp:lastModifiedBy>
  <dcterms:modified xsi:type="dcterms:W3CDTF">2011-01-29T05:55:16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f0000000000010250100207f7000400038000</vt:lpwstr>
  </property>
  <property fmtid="{D5CDD505-2E9C-101B-9397-08002B2CF9AE}" pid="3" name="_MarkAsFinal">
    <vt:bool>1</vt:bool>
  </property>
</Properties>
</file>